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5F73-D690-4BB6-A7AC-ACC36044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0495-6324-4A9B-8D40-5CC561EA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270F-2613-4241-91C2-973DCC654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86CC-4202-4760-A2DC-2E04202BE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95FC-D251-4DBE-9EBA-7C7789BAC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DFB6-5ED8-4B51-BFCE-21DF2B172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491D-2ACF-4F57-8F55-13439D589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C7BA-EC58-452F-A265-C8A0F8960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3DD9-E083-4C4D-8898-F344EDEDF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5081-4878-4414-B542-AD2F262AE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E0C8-98F6-4ABE-BD4D-980D860B3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EC11-0254-4075-B01D-ABDC0A43C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460B-D6FF-47C6-8A09-AE1609667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DFB1-D0A3-48D0-8432-22352407F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2995-BA5A-4EB4-ACB2-EE4D4CD3E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525760" y="3213000"/>
            <a:ext cx="64659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7000"/>
          </a:bodyPr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e Puls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UNPROTECTED OCCULA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 OR SCATTE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044880" y="5626080"/>
            <a:ext cx="5334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nse Pulsed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lengths: 400nm – 1400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John Hoopman</cp:lastModifiedBy>
  <cp:lastPrinted>2018-08-15T15:18:09Z</cp:lastPrinted>
  <dcterms:modified xsi:type="dcterms:W3CDTF">2020-03-25T15:08:19Z</dcterms:modified>
  <cp:revision>39</cp:revision>
  <dc:subject/>
  <dc:title>PowerPoint Presentation</dc:title>
</cp:coreProperties>
</file>